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ECA-EE58-48E2-93E2-BAE00DB2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233-AD7D-4286-B86C-FE8280A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CA3-CA99-49CC-A807-E6A47784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B38-309B-4F39-A7D4-47930534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35-3C26-4152-9E90-515C0180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CCA-042E-44C8-9577-DA7158E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C60-917B-421F-833A-55BA6F12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769-010C-4CE3-91C7-8806974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CD9-ACCC-4601-A078-8AD565D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F1A-DB68-4F8E-8AFB-6C2AB00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0A2-37ED-40A6-8491-1CC025E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3FA-8D6C-4D3E-8A38-DD2D7DF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452-77BE-4EDB-A3F6-1F11C713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00440" y="6095880"/>
            <a:ext cx="2209680" cy="642600"/>
            <a:chOff x="6400440" y="6095880"/>
            <a:chExt cx="2209680" cy="642600"/>
          </a:xfrm>
        </p:grpSpPr>
        <p:sp>
          <p:nvSpPr>
            <p:cNvPr id="43" name=""/>
            <p:cNvSpPr/>
            <p:nvPr/>
          </p:nvSpPr>
          <p:spPr>
            <a:xfrm flipH="1">
              <a:off x="6400440" y="6324480"/>
              <a:ext cx="4568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7640" y="6095880"/>
              <a:ext cx="175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@ 1mint  is ok as it i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00440" y="3581280"/>
            <a:ext cx="2514600" cy="824040"/>
            <a:chOff x="6400440" y="3581280"/>
            <a:chExt cx="2514600" cy="824040"/>
          </a:xfrm>
        </p:grpSpPr>
        <p:sp>
          <p:nvSpPr>
            <p:cNvPr id="46" name=""/>
            <p:cNvSpPr/>
            <p:nvPr/>
          </p:nvSpPr>
          <p:spPr>
            <a:xfrm flipH="1">
              <a:off x="6400440" y="3809880"/>
              <a:ext cx="64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49880" y="3581280"/>
              <a:ext cx="18651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15mint lightgreen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120" y="2514600"/>
            <a:ext cx="2590920" cy="580680"/>
            <a:chOff x="6324120" y="2514600"/>
            <a:chExt cx="2590920" cy="580680"/>
          </a:xfrm>
        </p:grpSpPr>
        <p:sp>
          <p:nvSpPr>
            <p:cNvPr id="49" name=""/>
            <p:cNvSpPr/>
            <p:nvPr/>
          </p:nvSpPr>
          <p:spPr>
            <a:xfrm flipH="1">
              <a:off x="6324120" y="274320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3000" y="2514600"/>
              <a:ext cx="19220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30mint light red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24120" y="1523880"/>
            <a:ext cx="2590920" cy="520200"/>
            <a:chOff x="6324120" y="1523880"/>
            <a:chExt cx="2590920" cy="520200"/>
          </a:xfrm>
        </p:grpSpPr>
        <p:sp>
          <p:nvSpPr>
            <p:cNvPr id="52" name=""/>
            <p:cNvSpPr/>
            <p:nvPr/>
          </p:nvSpPr>
          <p:spPr>
            <a:xfrm flipH="1">
              <a:off x="6324120" y="175248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93000" y="1523880"/>
              <a:ext cx="1922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 @ 50mint dark red color on ce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43000" y="304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mint plot of can heating from 25 to 127 °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erature profile inside the can at different times during Cherry pomace Ret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66680"/>
            <a:ext cx="8762760" cy="5791320"/>
            <a:chOff x="0" y="1066680"/>
            <a:chExt cx="8762760" cy="5791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65480" y="3962520"/>
              <a:ext cx="37972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892760" y="1219320"/>
              <a:ext cx="3870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066680"/>
              <a:ext cx="38700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3962520"/>
              <a:ext cx="3870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24200" y="266688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1120" y="525780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 color change( for the can) based on time and referring to the first Mint as I showed in first slide on the color lege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ean as in slide 2 at time 15 mint the center temperature should be light green( 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going out to yellow light red and dark red ( As shown in first slide for the can at 1 m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r time at 50 mint( 125.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should be red to dark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way to do that and control the color based on time of heating and refering to the first mint of heating legend color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2:35:47Z</dcterms:created>
  <dc:creator>greibyib</dc:creator>
  <dc:description/>
  <dc:language>en-US</dc:language>
  <cp:lastModifiedBy>greibyib</cp:lastModifiedBy>
  <dcterms:modified xsi:type="dcterms:W3CDTF">2011-05-05T17:44:16Z</dcterms:modified>
  <cp:revision>4</cp:revision>
  <dc:subject/>
  <dc:title>Slide 1</dc:title>
</cp:coreProperties>
</file>